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427-70D1-460A-8151-A35923D14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762-2E1A-4B43-891F-33EDE87595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B50-B54A-4E16-93C4-CE8EE84B75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496-3B7A-41EC-BF04-F23D644EF6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C1CC-DBE8-408D-9417-39F4E7B163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5CC4-5621-4D47-8E27-BDEE0F495D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409E-9523-47AC-B901-D9BD62F461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757-EEA1-4755-B8DE-76A2BDB711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0FBA-58C3-4DCA-AC77-09E687DC6E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5FC-E273-4750-AB09-B2BABFD01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DE5-D409-4C5D-A0D7-3E0EC322FA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A43-2BED-487E-8C04-96438C02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BF4-FF23-49FD-B5E2-B643BCA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9A3-FA89-47FE-B789-1A878CE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CC-46B6-43EC-BF49-97849C17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421D-7F61-4305-A4E6-6A94C8A0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64E-7295-4B9A-B8D0-25C2E6A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567-F195-4FC8-9A8F-A1F615D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0536-54FE-4681-BCF9-37BBF76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44F-1A08-4AAB-9404-2CA8585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D26-40F7-4B2D-9F15-8E43FF1F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B8C4-9455-4D1D-902A-30E6C8C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FB8-3010-4BA4-A493-E64A226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D61-147D-4272-B029-28842D3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ED30-3532-42B1-B810-C0ED33D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6D0-286B-48A7-9FFC-3544C4FD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B80F-304D-491E-86FC-3885729C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5D5-CE5C-4923-B430-6018E640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56B-D6B9-4E92-9B9A-9458D87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235-BE29-4AC2-911C-02453DB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A2B-D6C8-4567-9C66-AA159A6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AC2-D364-46D5-9839-3583379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7FD-FE5D-4144-B3C4-0E8B1D7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397-6926-414D-A8D6-6882D41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286-5EE5-48FA-BE5C-65BC40C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B294-C860-43A2-8758-052B083CDFB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5C8C-3F2D-4994-B8AB-635D4649260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978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apted from Dr. Cindi Harr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3969000" cy="109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is confining, labor intensive, repetitive, unappreciated, and life draining, you should click on the Jobs In Town Website to find a new place of employ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glish wor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me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derived from the Latin verb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e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to make clear.”  Argument is the process for making what we think clear to ourselves and oth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rusious and Channell-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he Aims of Argu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= claim an author mak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im= what an author wants you to belie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supported by evid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 place in contex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ve aims to persu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647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13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79200" y="-128520"/>
            <a:ext cx="398628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0" y="146160"/>
            <a:ext cx="4054320" cy="93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are the arguments made by this tex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vidence from the text supports this a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-152280" y="-158760"/>
            <a:ext cx="4163760" cy="1092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can be done by a machine, it may not be the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nobody notices you doing your job, it might not be the right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s an advertisement for a job search company, it suggests that you use their service to find a new job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9112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26:36Z</dcterms:created>
  <dc:creator>nvasquez</dc:creator>
  <dc:description/>
  <dc:language>en-US</dc:language>
  <cp:lastModifiedBy>Nvasquez</cp:lastModifiedBy>
  <dcterms:modified xsi:type="dcterms:W3CDTF">2010-09-27T17:17:38Z</dcterms:modified>
  <cp:revision>8</cp:revision>
  <dc:subject/>
  <dc:title>Audience, Purpose, &amp; Genre</dc:title>
</cp:coreProperties>
</file>